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2484-6A1B-44EE-85C1-FB2F38905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either slide 2 or 3 and proceed to slide 4 if you wish to discuss some misconceptions that are not brough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7106-B12A-480A-82BA-8C87DC8B0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d these events? Are they related in any w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EF9F-2517-42F1-A9AC-A2461E52D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‘prompt’ – what ideas about global warming do these images conj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66D5-45D0-4388-8B03-816C8A08F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teresting list can be built up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66A-018B-4C4F-9770-CF0485940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DA6-2595-4A00-B6BC-625B9A66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621-2233-4558-88BF-9943929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8A9-3A69-41D9-AE11-7225F0D9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E3C-1F30-481C-B14F-264AC5DC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76A-61EB-4ADD-A8BA-A70862E1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9EC-71DB-4D0B-85B3-5836029D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19D-FAE3-4416-B640-5722A0C4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3BF-E17E-458B-A438-2DB260C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D20-D753-477F-AAEF-CC85E89D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49A-1950-449E-92F2-C3BD48F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1BA-68E2-430B-9A82-8BF55D89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E98-781B-4697-B3DA-C661F18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1033-6979-4326-8972-5F5516367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COMES TO MI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 your thoughts in response to the image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C:\Documents and Settings\S7009487H\Local Settings\Temporary Internet Files\Content.IE5\5NGWHPXJ\MC900437211[1].jpg"/>
          <p:cNvPicPr/>
          <p:nvPr/>
        </p:nvPicPr>
        <p:blipFill>
          <a:blip r:embed="rId1"/>
          <a:stretch/>
        </p:blipFill>
        <p:spPr>
          <a:xfrm>
            <a:off x="2438280" y="609480"/>
            <a:ext cx="40388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Photo: Lines of wildfire snaking through foothills"/>
          <p:cNvPicPr/>
          <p:nvPr/>
        </p:nvPicPr>
        <p:blipFill>
          <a:blip r:embed="rId1"/>
          <a:srcRect l="0" t="0" r="-9329" b="0"/>
          <a:stretch/>
        </p:blipFill>
        <p:spPr>
          <a:xfrm>
            <a:off x="0" y="380988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4920" y="0"/>
            <a:ext cx="23274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 most terrifying global warming image"/>
          <p:cNvPicPr/>
          <p:nvPr/>
        </p:nvPicPr>
        <p:blipFill>
          <a:blip r:embed="rId3"/>
          <a:stretch/>
        </p:blipFill>
        <p:spPr>
          <a:xfrm>
            <a:off x="6553080" y="2895480"/>
            <a:ext cx="2590920" cy="209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olar bear global warming photo"/>
          <p:cNvPicPr/>
          <p:nvPr/>
        </p:nvPicPr>
        <p:blipFill>
          <a:blip r:embed="rId4"/>
          <a:stretch/>
        </p:blipFill>
        <p:spPr>
          <a:xfrm>
            <a:off x="6505560" y="0"/>
            <a:ext cx="2638440" cy="295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limate change hurricanes photo"/>
          <p:cNvPicPr/>
          <p:nvPr/>
        </p:nvPicPr>
        <p:blipFill>
          <a:blip r:embed="rId5"/>
          <a:stretch/>
        </p:blipFill>
        <p:spPr>
          <a:xfrm>
            <a:off x="2362320" y="0"/>
            <a:ext cx="417672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ust cloud climate change photo"/>
          <p:cNvPicPr/>
          <p:nvPr/>
        </p:nvPicPr>
        <p:blipFill>
          <a:blip r:embed="rId6"/>
          <a:stretch/>
        </p:blipFill>
        <p:spPr>
          <a:xfrm>
            <a:off x="2362320" y="236232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Brazilians relax under Manaus&amp;#x27;s Brito Bridge"/>
          <p:cNvPicPr/>
          <p:nvPr/>
        </p:nvPicPr>
        <p:blipFill>
          <a:blip r:embed="rId7"/>
          <a:stretch/>
        </p:blipFill>
        <p:spPr>
          <a:xfrm>
            <a:off x="0" y="3657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Photo: Elephant drought victim"/>
          <p:cNvPicPr/>
          <p:nvPr/>
        </p:nvPicPr>
        <p:blipFill>
          <a:blip r:embed="rId8"/>
          <a:stretch/>
        </p:blipFill>
        <p:spPr>
          <a:xfrm>
            <a:off x="6248520" y="492768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2362320" y="2370240"/>
            <a:ext cx="41907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used these ev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they related in any 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Documents and Settings\S7009487H\Local Settings\Temporary Internet Files\Content.IE5\E3ZJA7R1\MC900437253[1].jpg"/>
          <p:cNvPicPr/>
          <p:nvPr/>
        </p:nvPicPr>
        <p:blipFill>
          <a:blip r:embed="rId1"/>
          <a:stretch/>
        </p:blipFill>
        <p:spPr>
          <a:xfrm>
            <a:off x="1368360" y="228600"/>
            <a:ext cx="640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hildren and adults think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solar input through the ozone hole increases global temperatu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house gases retain heat by preventing convection and trapping warm air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e in the ozone layer will cause glaciers in the poles to m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ar ice-caps melting result in the rise in sea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these true or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3:33:34Z</dcterms:created>
  <dc:creator>Axioo</dc:creator>
  <dc:description/>
  <dc:language>en-US</dc:language>
  <cp:lastModifiedBy>Goh Tiang Ai</cp:lastModifiedBy>
  <dcterms:modified xsi:type="dcterms:W3CDTF">2014-05-26T02:32:26Z</dcterms:modified>
  <cp:revision>12</cp:revision>
  <dc:subject/>
  <dc:title>Slide 1</dc:title>
</cp:coreProperties>
</file>